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C17-0529-4AC5-9228-192877F6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D035-703C-4A9E-AFBC-D33C9B71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6FD5-32D5-428D-B75A-A3304272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1E9D-D25F-4295-9FDE-F7873200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C4C-FC21-4751-9A96-15C226E9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3DE9-2292-4B99-81A5-C95FB6EC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9906-6F7B-4975-9D49-0AD663CE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0398-8AC7-44F2-A87B-A6085392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A6A9-9EDA-4E61-9AB9-D72F2BED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80EE-CE80-4D68-A4BF-FE8F4B94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8F14-42D9-4544-9232-12B9BD66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3883-918B-4FD8-8E7F-8B94D370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304C-1D4F-4D82-A8DB-E5D906419300}" type="slidenum">
              <a:rPr b="0" lang="nb-N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Global News Media Corpor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English Subject Curricul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ulture, society and lit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e aims of the studies are to enable pupils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alyse and assess the role of some English-language media in international soci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Global Media Corpor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 business that might own and r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worldwide TV and radio channels and s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webs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film compan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global and local newspapers, magazines and publishing hou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ime Warner Inc. – one of the largest media corporations in the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Owns CN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BBC</a:t>
            </a:r>
            <a:br>
              <a:rPr sz="4400"/>
            </a:b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he British Broadcasting Corp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Free from advertising and commercial inte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Financed by televison license fees paid by British viewers + the sale of high quality programs abr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BBC World News radio broadcasts in over 30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BBC independent of the British gover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BBC considered to maintain a high standard of journalis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Known to be reliable and object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ffffff"/>
                </a:solidFill>
                <a:latin typeface="Arial"/>
              </a:rPr>
              <a:t>CNN</a:t>
            </a:r>
            <a:br>
              <a:rPr sz="4000"/>
            </a:b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he Cable News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Owned by Time Warner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CNN broadcasts to 150 countries from five international off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Famous for being first on the scene of world ne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CNN was the only network with the technology to broadcast worldwide 24 hours a day during the Gulf War in19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The Gulf War changed news reporting from dry facts to high drama – other news networks followed s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Has been accused of presenting a pro-American world 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However, CNN uses mainly local news reporters in many areas of the wor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Al Jaze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The first non-English global news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Began as a web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Based in the Middle E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Broadcasts are in Arab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Al Jazeera English launched in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offices in UK, US and Middle Ea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Has local reporters in many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Has journalists from the BBC and CNN on the staf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Presents news stories from all over the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France 2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 French-language global news cha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Reporting news 24 hours a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Began as a web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Plans to broadcast in Arabic and Spanish in a few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New Global Media </a:t>
            </a:r>
            <a:br>
              <a:rPr sz="3600"/>
            </a:br>
            <a:r>
              <a:rPr b="0" lang="nb-NO" sz="2800" spc="-1" strike="noStrike">
                <a:solidFill>
                  <a:srgbClr val="ffffff"/>
                </a:solidFill>
                <a:latin typeface="Arial"/>
              </a:rPr>
              <a:t>New Perspectives on the Worl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the rise of new global news corporations like Al Jazeera and France 24 represent a move away from Anglo-American dominated global news repor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spite the fact that CNN, BCC, Al Jazeera, and France 24 employ local reporters in many countries – their news coverage, news items and headlines and formats are quite similar – almost ident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seems as if they are bent on copying each other in the competition for an English language global news aud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owever, will they in time part ways and develop their own individual style, and cater more to the specific interests of different population group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 will they, in their competition, for viewers try to appeal to everyone and become even more alik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By Nina Sandström Angels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Selbu videregående sko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na</cp:lastModifiedBy>
  <dcterms:modified xsi:type="dcterms:W3CDTF">2009-12-01T00:14:2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